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214-5A91-4CFB-98A9-A2D006E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AB5-E7E0-49F0-AFE8-68B5AAC6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7D1-88B6-4226-A77C-21E981D7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E85-C46E-4292-A07A-A9A52DEC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33E-4077-48CC-B526-2D1A44C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7F02-9851-4396-B903-DE7D936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780-9600-4755-9906-840D597D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805-0872-40C0-9C83-C5FB0BB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EFEB-331A-4B5C-80BE-DEA6E87A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D1D-904F-46A6-B977-9EC2590A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9A8-7762-4514-A62B-33BC742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93D-C276-4454-ADCB-FF7DC3D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61C-DB0B-4909-97D9-3B99F7EA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E133-FC42-4BCE-890C-7A8F503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AEA0-7765-4B9E-9E34-543A8A36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3D2B-C940-4A39-8365-381F75D8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3ABC-6588-4E24-ADAF-5D8A6B24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63F5-B3C3-4284-B3D9-3D793E9F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2283-A47D-4516-9AED-7F6756A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67E4-A80B-449B-B924-A0931C5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A85F-393C-49AE-8F60-0EF80D4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4A89-7FFC-41B4-A079-21301BB7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085-B9F3-411F-B869-A861AC67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8AEF-41AB-4334-A1B8-CCA2F699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5F27-71C0-46A4-B914-F11D66A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17D0-F02C-4425-90F1-24A5F12E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4C38-8FF8-4EA4-BB7A-89E219D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97260-739F-47DD-81C3-8EB78BD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367E-D074-42F5-BF59-DCA3F2E7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4DC9-15B4-4AE1-8775-14D56DE8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3A6A-D562-477A-8C7F-F9190D0F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847E-4D8A-4C6C-9DD8-0358BC8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2F0B-F043-4FE0-94AA-CA7D465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C7E-7C0E-4EA0-89B3-7A97964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D39B-941C-4122-A046-172B5DAC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CF12-71FE-4746-907E-86D0C1E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FB0E-A7E7-4A12-A978-3F54D98E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5173-8CEB-4183-AA53-A1E3801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F68B-0F4E-42AF-8191-A91962E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E58A-742D-4564-855B-B1CE7BD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FCC1-687C-4CC6-8D23-B0EC0E73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148E-1ACC-4BDD-80BC-0A70DC4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29C1-4D46-41CD-82AF-B2400A91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1DDA-8FBF-4C44-BC49-5AFB6D33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A50-976A-40BB-9AAD-A00352BC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4127-F37B-4E2B-ABAF-A7BDCDE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2630-820B-42A3-9E60-149B910F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F2C7-89F4-4F97-A57B-2195A36A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648FF-0A70-4C0D-86EA-1F13C835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DE21D-00E2-468B-B8AC-981A8AC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CA07-3F5E-4DAE-A354-B5B61EFA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0862-B6A8-454D-84D7-EB01B2C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A26E-389C-4088-BCB0-8A1D74E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1DAC-D43E-4766-8360-B8AAAE9C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89A0-2B9C-4E09-B156-950B1BD5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709-3DF7-4DB9-9DB2-80893E9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69AE7-5796-4BF1-9B07-A3F9366D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9B82-3804-4666-94B1-FE5B5BDD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E4D2-456A-4DCC-93BC-D52B042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9550-5047-49BE-AD27-A0E3370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6965-43BE-4E9E-8760-CC71A08D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7925B-4EBB-4808-859A-2950FF7B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E25E2-E1C7-44A9-ADDA-CDDE6F76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4D7B-ACB1-44AC-9ECF-F33C21C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DDA1-283F-475D-A601-76B0B4E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0DEF3-FA5F-4A55-A7AD-AB8211C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837-F62F-441E-A055-6B489E0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B2C1-14B5-45A1-A1FE-A9F06243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EC13-C2F0-4344-B2AA-C5D1569E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D654-8BBB-484F-B4C3-09F662D0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02DF-5BC5-4ABE-81DB-0FF4DFC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24198-C173-4182-85E2-DB3646C5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5303-92BF-46A8-98CE-C8464A37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9710-20D3-4F61-8988-E5F6FC4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D161-14EE-4226-B664-B6AFC39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51EE-CD2C-4F44-B83E-517E37BD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C63E6-D777-4CBD-B156-664AF69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E49-4558-4881-9707-99B0BD5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90AF-3CF6-4034-B35C-6BFAA595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1389-C353-45C9-8C78-8BF007C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8F79-3FE4-4962-B067-AEF9C436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B699-E8B3-4C73-864F-08B114CC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9780-1011-41BF-AB36-97018E8B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F5B-1C47-4932-85FF-670A7FA0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9661F-3A99-4043-A3F8-4093495A6378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C1EA4-DC2C-4BC0-B787-06E826FA2C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8141B-1B60-4925-A992-35CFC2DA0E1D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3798-EE78-4D47-BFE2-1B9DDE2E18A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EA1D4-B917-4ADB-BF5C-43377F78503A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A2D40-E460-46D4-9FA4-936435909D4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25B66-3560-49FA-A27C-816DB2DAAD48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72363-08CC-4BBA-8733-C51D07EB64F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3EFC2-26F5-4204-89C5-019BC6D9BB11}" type="datetime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E8D89-FC4D-4652-ABE9-0D52A45D37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543FB-9275-47F4-B9E6-62B11E0A6508}" type="datetime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0B198-7BAB-45D9-B56B-A3383C5EC11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BD174-0835-46C3-9B3B-ED28BC0F3B60}" type="datetime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1898-7EAA-467E-89CA-8E5E520651C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38360"/>
            <a:ext cx="8571240" cy="15112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46320"/>
            <a:ext cx="8394840" cy="1865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0" y="3370320"/>
            <a:ext cx="44258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742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hink writing is ha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hink that their writing has to be perf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feel like their ideas aren’t good enoug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s take too long to wri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tudent don’t think they know how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to wri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others??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934320" y="3943440"/>
            <a:ext cx="2133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97599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218960"/>
            <a:ext cx="8229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make writing do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have students understand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that writing is a process that can tak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a long time to perfec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have students write some short stories, quick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give students opportunities to succeed in writ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remind students that writing is fu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6324480" y="539640"/>
            <a:ext cx="2670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quick, fun writing activit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group writing activ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haring about lif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haring as a cla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mixing it up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3886200" y="3081240"/>
            <a:ext cx="5105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sentence pass activ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have each student start with a sentence (about anything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pass paper to the right and the next student continues on with the stor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fold paper so  you can only see the last sentence and contin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no names of people in the class, keep it school appropri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5565600" y="969840"/>
            <a:ext cx="3121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synonyms and antonym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have students fold a paper into third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number 1-5 down the left hand sid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give them five words to write down and then have them fill in the M (s) and R (a) colum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97400" indent="-27720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students then write a story using five of the words (at least one from each column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071360" indent="-2214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great time to refresh synonyms and antony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71360" indent="-22140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tip: works well for ALL writing levels because students word choice is based on what they know (everyone wi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2"/>
          <a:stretch/>
        </p:blipFill>
        <p:spPr>
          <a:xfrm>
            <a:off x="0" y="495288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first thought sto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 Condensed"/>
              </a:rPr>
              <a:t>number your paper 1-5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13960" indent="-28296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 Condensed"/>
              </a:rPr>
              <a:t>I’m going to say a word, please write down the first word that comes to mind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1. smi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2. caterpilla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3. vacatio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4. penci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5. music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>
              <a:lnSpc>
                <a:spcPct val="100000"/>
              </a:lnSpc>
              <a:spcBef>
                <a:spcPts val="4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Now use these five words to create a story that is at least five sentences long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3680" indent="-226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merican Typewriter Condensed"/>
              </a:rPr>
              <a:t>*for an extra challenge try to use your words in ord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3121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do what works for you and your studen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this is what works for me right now…who knows about next ye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adapt and adop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 Condensed"/>
              </a:rPr>
              <a:t>if someone else is doing something cool, try it (especially on the web ie: googledoc or blog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 Condensed"/>
              </a:rPr>
              <a:t>try it ou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80840" indent="-27144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merican Typewriter Condensed"/>
              </a:rPr>
              <a:t>Don’t be afraid, tell your students this is new (fine tune as the day, week, and year goes on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457200" y="0"/>
            <a:ext cx="2917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535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39:30Z</dcterms:created>
  <dc:creator>clare ogle</dc:creator>
  <dc:description/>
  <dc:language>en-US</dc:language>
  <cp:lastModifiedBy> </cp:lastModifiedBy>
  <dcterms:modified xsi:type="dcterms:W3CDTF">2011-01-10T16:04:15Z</dcterms:modified>
  <cp:revision>16</cp:revision>
  <dc:subject/>
  <dc:title>creative writing</dc:title>
</cp:coreProperties>
</file>